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A668-91F0-40D1-AFC2-58D2489C0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2A18-4D4B-476C-A6B9-03178DF6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8E74-E25A-4963-AC2B-5A6431A3B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08A6-5666-4C28-87E4-676C1A1F3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E5DF-F623-4329-9746-6C1D93B70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FAFC-4A75-4CDF-9022-DFD8214DC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BB2D-BC96-47D5-BF43-2A27594EF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BE7B-4968-4A98-9E44-D0DB50173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07CB-117B-4AE4-9557-4D3DE3CFD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4A47-0C4E-4216-9B0D-B4680F7A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4FE0-BAAA-4234-86C7-409E20D8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08ED-EA9D-42F9-87E9-782379A3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7EBB1-A6C2-455E-93D1-6C013553B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8960" y="3276360"/>
            <a:ext cx="65530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inted Faces &amp; Long H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:  What’s this chapter going to be about??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fire!  The ship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Pages 67-6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ire was dead.  They saw that straight away;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aw what they had really known down on the beach when the smoke of home beckon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 The fire was out, smokeless and dead; the watchers were gone.  A pile of unused fuel lay ready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2 jobs for these pag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Page 68-6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sentence with 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PERSON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t:  How will the relationship between 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Jack &amp; Ralp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rt to change? 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ze:  J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Page 6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does he feel right n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ck:  Does he Like/Dislike kill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Page 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mind was crowded with memories; memories of the knowledge that had come to them when they closed in on the struggling pig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knowledge that they had outwitted a living th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mposed their will upon it, taken away its lif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like a long satisfying drin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ich side would you be 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Page 7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wo boys faced each other.  </a:t>
            </a:r>
            <a:r>
              <a:rPr b="1" lang="en-US" sz="3200" spc="-1" strike="noStrike" u="sng">
                <a:solidFill>
                  <a:srgbClr val="0066ff"/>
                </a:solidFill>
                <a:uFillTx/>
                <a:latin typeface="Arial"/>
              </a:rPr>
              <a:t>There was the brilliant world of hunting, tactics, fierce exhilaration, ski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 (Jack’s world)   and </a:t>
            </a:r>
            <a:r>
              <a:rPr b="1" lang="en-US" sz="3200" spc="-1" strike="noStrike" u="sng">
                <a:solidFill>
                  <a:srgbClr val="00cc00"/>
                </a:solidFill>
                <a:uFillTx/>
                <a:latin typeface="Arial"/>
              </a:rPr>
              <a:t>there was the world of longing and baffled common sen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(Ralph’s world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boys are starting to take side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Page 7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uzz from the hunters was one of admiration at this </a:t>
            </a:r>
            <a:r>
              <a:rPr b="1" lang="en-US" sz="3200" spc="-1" strike="noStrike" u="sng">
                <a:solidFill>
                  <a:srgbClr val="0066ff"/>
                </a:solidFill>
                <a:uFillTx/>
                <a:latin typeface="Arial"/>
              </a:rPr>
              <a:t>handsome behavi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his “</a:t>
            </a:r>
            <a:r>
              <a:rPr b="1" lang="en-US" sz="3200" spc="-1" strike="noStrike" u="sng">
                <a:solidFill>
                  <a:srgbClr val="0066ff"/>
                </a:solidFill>
                <a:uFillTx/>
                <a:latin typeface="Arial"/>
              </a:rPr>
              <a:t>handsome behavi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iggy:  </a:t>
            </a:r>
            <a:r>
              <a:rPr b="1" lang="en-US" sz="4000" spc="-1" strike="noStrike" u="sng">
                <a:solidFill>
                  <a:srgbClr val="0066ff"/>
                </a:solidFill>
                <a:uFillTx/>
                <a:latin typeface="Arial"/>
              </a:rPr>
              <a:t>Friend or Fo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with Ralp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Page 7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ot even Ralph knew how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a link between him and Jack had been snapp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fastened elsewher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I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ey get that pi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Page 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Conflict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:  William Golding keeps giving us confli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Page 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lph watched them, </a:t>
            </a:r>
            <a:r>
              <a:rPr b="1" lang="en-US" sz="3200" spc="-1" strike="noStrike" u="sng">
                <a:solidFill>
                  <a:srgbClr val="0066ff"/>
                </a:solidFill>
                <a:uFillTx/>
                <a:latin typeface="Arial"/>
              </a:rPr>
              <a:t>envio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 u="sng">
                <a:solidFill>
                  <a:srgbClr val="00cc00"/>
                </a:solidFill>
                <a:uFillTx/>
                <a:latin typeface="Arial"/>
              </a:rPr>
              <a:t>resentfu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 the Simili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Page 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t midday the illusions merged into the sky and there the sun gazed down like an angry ey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“littlun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Page 5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iscuss:  What is it like being 6 years old on this island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Page 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Our closer look at Roger!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o is h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is your evaluation of hi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Jack is really starting to change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Page 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e looked in astonishment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no longer at himself but at an awesome strange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  He spilt the water and leapt to his feet, laughing excited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ember the Title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Page 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side the pool his sinewy body held up a mask that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rew their eyes and appalled the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 He began to dance an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is laughter became a bloodthirsty snarli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 (next slide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Page 64 continu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e capered toward Bill, and the mask was a thing on its own, behind which Jack hid, liberated from the shame and self-consciousnes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the other “biguns” like Pigg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Page 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had grown up tacitly among the biguns the opinion that Piggy was an outsider, not only by accent, which did not matter, but by fat, and ass-mar, and specs, and a certain disinclination for manual labor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’S HAPPENING ON THIS PAGE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 Unicode MS"/>
              </a:rPr>
              <a:t>Page 6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It’s a BIG EVENT!!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14:46:39Z</dcterms:created>
  <dc:creator>BPS</dc:creator>
  <dc:description/>
  <dc:language>en-US</dc:language>
  <cp:lastModifiedBy>BPS</cp:lastModifiedBy>
  <dcterms:modified xsi:type="dcterms:W3CDTF">2009-12-15T15:38:13Z</dcterms:modified>
  <cp:revision>16</cp:revision>
  <dc:subject/>
  <dc:title>Chapter 4</dc:title>
</cp:coreProperties>
</file>